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33C-6A76-4E33-AD2D-A9B45A92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D35-45F5-415D-9974-E27BE8C6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1C8-A0EB-4E08-8CF2-B3EBC2ED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EF7-26C0-4CB4-AAAA-DFA38CF6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BD6-8489-4AE7-9C5E-4B0AC2A3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B2B-C0C8-4577-A03A-DC37110E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369-F772-46E0-92B1-2A14E48D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73A-85DB-48D5-B0E8-508E7175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9CF-8BCE-4C79-8DEE-57B82E85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0E2-69F0-495B-95AB-768B7B29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A0C-C84F-4B08-A9A7-8406C8C3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182-4696-4BA1-84A9-B6532C01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4F61-0C6A-4F63-AE98-D93DA4CBC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71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= located o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left of the periodic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752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IME OUT!!! You said metals we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n the left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286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, but it belongs the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ecause electrons are arranged by atomic # (# of protons) and it has 1 valence electron like others in Group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35053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eleme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cts differently than all other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0384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Electrons = electrons tha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in the outer shell of the atom (el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4800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uter shel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last energ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are valence electrons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14479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they a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hat allows chemical reactions to tak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3623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in a group sha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imilar chemical properties because they have the same # of 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perti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t the same because the valence electrons not in the same shell/energy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3962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495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1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lkali me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ll 1A elements have 1 valence e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kali metals hav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1 valence 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295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er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re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752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und onl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n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209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familiar compoun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salt (Na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lkaline earth metals (2 valence e- for entire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352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ance 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886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tals hard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an those in group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3434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gnesium and calcium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essential to biological life as well as huma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3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oron 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1371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3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828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familia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Alumi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2286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bund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etal in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2819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4A = Carbo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276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4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3733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de up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nmetals, two metalloids, and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4267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rbon most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7242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fo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uman life, because most of the compounds include 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ilico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ext most familiar in carbo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447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st abund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lement in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1752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5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itroge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5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ntains metals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nmetals, and metal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124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used i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ertili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657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ssentia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4191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itroge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st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4648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xyge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5105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xygen most abund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lement in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zone anoth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m of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1752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de up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nmetals and metal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133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7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alo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438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7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819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lourine and chlorin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st famili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200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8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581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8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038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odor an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 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5257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eon mos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4956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no reactivity? Becaus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outer shell is full=8 electrons, meaning it doesn’t lose or gain to be s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5:07:26Z</dcterms:created>
  <dc:creator>Farwell Area Schools</dc:creator>
  <dc:description/>
  <dc:language>en-US</dc:language>
  <cp:lastModifiedBy>Farwell Area Schools</cp:lastModifiedBy>
  <dcterms:modified xsi:type="dcterms:W3CDTF">2009-01-06T19:59:52Z</dcterms:modified>
  <cp:revision>17</cp:revision>
  <dc:subject/>
  <dc:title>Note Guide 5-3 </dc:title>
</cp:coreProperties>
</file>